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8A9-3C47-4530-841E-048AC3F6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7E8-0763-45EC-BBBD-E00E6C28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D49-48EE-4174-9D6F-EA58C7BE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FFF-B24A-404A-95FE-B059ABEB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2D12-024B-4DD3-8A9B-635D235D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69EF-0864-443D-9526-8AD6763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7F5C-F300-40D2-A213-6F215B51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E98D-A087-4171-BCBE-9181CF2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0565-0B26-457E-A13C-32768E23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3E66-A6D1-4B95-953F-A64A6947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677F-454F-4179-8286-2A853609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F59-2839-4C92-8EC8-BFDD315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0F96-9D9E-4462-AE32-84C7E69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70C8-6E66-49C3-96FF-7CC70CD2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5014-B0F1-41CD-8F47-0006EE20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2B12-C3B9-4C50-8E7E-1A5F1211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9225-14F7-4087-821B-D0CA515A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FF92-C73B-4BA6-ACE5-57882DF6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A419-9891-4A56-A01E-21A456F8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05440-DA6C-4E06-9AF5-12DFC631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A01A-835B-4827-BB89-EF19C96B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1B5B-2575-40F7-883E-15D93545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1C6-F6BA-4F02-90EA-F5FFDA59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F513-BD91-4E47-8A9F-999F1E3C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1BA5-B331-483B-8B58-AF4A5616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82F6-847D-4E0D-B0DD-D344603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B335-9B58-4089-B342-FB9F26A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1377-5753-447E-AA1E-0BABE45E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8047-2B6B-4045-8511-A573C392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8C19-1883-4BED-984A-836CFC4A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62F85-045D-4C9A-8D8B-A214A2DF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0812-83FC-4E27-9A6F-7F5EE455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E461-5D00-4D40-8E1A-C7A21709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D8D-33A2-43C3-835D-6E16DB97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E532-A3B1-4748-B4C6-E9A4CF8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61694-C738-411F-BA3E-56ED4083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FAD7-2FA4-4BDF-8072-177AEE9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C2F11-BE28-4D99-BA6F-B3C2DE33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630D-FDF4-44F9-AE77-99FE56A7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D24D-DEE6-4E3C-A7BA-78E763A2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896DB-598E-4B0A-AB65-5268082A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021C-A0B0-46AB-8586-9D74EC77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6895-C4B8-4BBD-9324-814E7BBD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AD4-7781-4E13-907A-619C81BA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51C-9C3F-4038-9B9E-08C7C926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441-10A6-427F-9950-84A6F7B1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F5C-D4AA-4345-A247-603A861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1A7-437C-4010-8C13-75068DE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6C73-5099-4F91-9A50-CA16D58D7A9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2753-57B1-4B74-ADB1-A957A5A3F89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7DA7-C4E3-45B9-95DA-1A7EC470947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11B8-975F-4F39-8427-3D6205621B5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80880" y="733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us Mruma, Gabriel Ndu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ephat Kionau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228600" y="7621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rmers’ perceptions 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postharvest 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able 8" descr=""/>
          <p:cNvPicPr/>
          <p:nvPr/>
        </p:nvPicPr>
        <p:blipFill>
          <a:blip r:embed="rId1"/>
          <a:stretch/>
        </p:blipFill>
        <p:spPr>
          <a:xfrm>
            <a:off x="225360" y="2305080"/>
            <a:ext cx="5492880" cy="4040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5867280" y="2362320"/>
            <a:ext cx="3276720" cy="16167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Diverse knowledge g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rmers’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reation and training of commodity storage special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loss control pract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2362320"/>
          <a:ext cx="5257800" cy="3817800"/>
        </p:xfrm>
        <a:graphic>
          <a:graphicData uri="http://schemas.openxmlformats.org/drawingml/2006/table">
            <a:tbl>
              <a:tblPr/>
              <a:tblGrid>
                <a:gridCol w="4114800"/>
                <a:gridCol w="114300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ol meas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ditional h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-processing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rtificial chemical control (Insecticides &amp; pesticides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dr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taining hygien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handling/pack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2"/>
          <p:cNvSpPr/>
          <p:nvPr/>
        </p:nvSpPr>
        <p:spPr>
          <a:xfrm>
            <a:off x="0" y="4572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562720" y="2362320"/>
            <a:ext cx="3581280" cy="27579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Extensive use of pesticides in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management training: Introduce improved methods for drying, shelling, storage, 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sure public health safety by investigating and providing a remedy to potential high pesticide residue in marketed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167616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44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3 lead farmers were trained in Kipelesa and Ngipa  villages of Kite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maize shelling practices aiming at reducing food loss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rmers spend on crop proces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drying technology (e.g. by using the collapsible dryer cas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I:\DCIM\Camera\2015-07-02 11.43.22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095880" y="3276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PERESA VILLAGE,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G:\DCIM\129___07\IMG_5076.JPG"/>
          <p:cNvPicPr/>
          <p:nvPr/>
        </p:nvPicPr>
        <p:blipFill>
          <a:blip r:embed="rId2"/>
          <a:stretch/>
        </p:blipFill>
        <p:spPr>
          <a:xfrm>
            <a:off x="607068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-360" y="16765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092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torage practices (e.g. use of hermetic storage bag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ctivities are going f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I:\DCIM\Camera\2015-07-02 11.16.20.jpg"/>
          <p:cNvPicPr/>
          <p:nvPr/>
        </p:nvPicPr>
        <p:blipFill>
          <a:blip r:embed="rId1"/>
          <a:stretch/>
        </p:blipFill>
        <p:spPr>
          <a:xfrm>
            <a:off x="6477120" y="352440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I:\DCIM\Camera\2015-07-02 12.01.02.jpg"/>
          <p:cNvPicPr/>
          <p:nvPr/>
        </p:nvPicPr>
        <p:blipFill>
          <a:blip r:embed="rId2"/>
          <a:stretch/>
        </p:blipFill>
        <p:spPr>
          <a:xfrm>
            <a:off x="6477120" y="76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ain 48 lead farmers i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trainers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four  villages of Kongwa and Mvom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intensification of maize fortification with micronutrient in areas where TUBOCHA was operating micronutrient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wareness of processors on proper fortification proced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raining of lead farmers on improved postharvest handling practices: shelling, drying and storag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public health safety of  cereals and legumes stored with pestic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120" y="170604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 expectation of farmers in return for the  information they offered; majority of the farmers were expecting food a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experienced prolonged dry season and late rainfall which are thought to cause crop failure, causing reduced need for storage technologies as the household food may run-out very quickl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 AND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management activities have just started because the harvest season for maize is June/Ju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harvest team will keep implementing the IR 6 to improve the livelihoods of the smallholder farming communities in the project areas through reduced food loss and consumption of nutrient-dens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 AND RECOMMEND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30280" y="2822400"/>
            <a:ext cx="7742160" cy="144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s://encrypted-tbn3.gstatic.com/images?q=tbn:ANd9GcTqGbQx8ihsnIQDjkt_WTAIpj7IkuwUHV3fvUytXDUfWJ30NIiHxw"/>
          <p:cNvPicPr/>
          <p:nvPr/>
        </p:nvPicPr>
        <p:blipFill>
          <a:blip r:embed="rId2"/>
          <a:stretch/>
        </p:blipFill>
        <p:spPr>
          <a:xfrm>
            <a:off x="228600" y="685800"/>
            <a:ext cx="48769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encrypted-tbn0.gstatic.com/images?q=tbn:ANd9GcQFfRd58MYaM_0rAWLbDpwffKO1Bk9-EI7uogj0YIV6ag5K2Xx6"/>
          <p:cNvPicPr/>
          <p:nvPr/>
        </p:nvPicPr>
        <p:blipFill>
          <a:blip r:embed="rId3"/>
          <a:stretch/>
        </p:blipFill>
        <p:spPr>
          <a:xfrm>
            <a:off x="7238880" y="762120"/>
            <a:ext cx="1352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560" y="11430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BJECTIVES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ARTNER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RESULT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ACHIE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AND CONSTRAINTS FACE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EST ACTIVITIES AND IMPRO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CLUSION AND RECOMMENDATION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457200" y="533520"/>
            <a:ext cx="43434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:\DCIM\129___07\IMG_5073.JPG"/>
          <p:cNvPicPr/>
          <p:nvPr/>
        </p:nvPicPr>
        <p:blipFill>
          <a:blip r:embed="rId1"/>
          <a:stretch/>
        </p:blipFill>
        <p:spPr>
          <a:xfrm>
            <a:off x="4775040" y="11430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11426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food loss is a challenge that contributes to food insecurity and reduces the income of millions of smallholder far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grains and legumes ranged fro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 – 40%  at the time of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% during shell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5 – 25% or up to 90% during stor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 vegetables ≥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or handling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nadequate storage conditions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amage during transpor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523520"/>
            <a:ext cx="4648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any simple tools and approaches for reducing the losses exis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Uptake and adoption by smallholder farmers remain limited due to lack of awareness and skills to use th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G:\DCIM\129___07\IMG_5072.JPG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280" y="1599840"/>
            <a:ext cx="83059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and provide improved innovation and technologies that improve harvesting, processing and storage of cereals and legumes to increase food security and safe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post harvest management technologies to reduce losses and bring quality up to market standar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jectiv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1447920"/>
          <a:ext cx="8686800" cy="4494240"/>
        </p:xfrm>
        <a:graphic>
          <a:graphicData uri="http://schemas.openxmlformats.org/drawingml/2006/table">
            <a:tbl>
              <a:tblPr/>
              <a:tblGrid>
                <a:gridCol w="533520"/>
                <a:gridCol w="2819160"/>
                <a:gridCol w="609840"/>
                <a:gridCol w="1218960"/>
                <a:gridCol w="914400"/>
                <a:gridCol w="914400"/>
                <a:gridCol w="914400"/>
                <a:gridCol w="762120"/>
              </a:tblGrid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838080" y="609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RGET BENEFITI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N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676160"/>
            <a:ext cx="83055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AFA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UBOCH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enter for Counseling, Nutrition and Health Care (COUNSENUTH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ueFoo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ee Pee (T) Ltd – PICS bag manufactu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Users\Simon Boniface\Desktop\For Ibrahim\Map showing the villages.png"/>
          <p:cNvPicPr/>
          <p:nvPr/>
        </p:nvPicPr>
        <p:blipFill>
          <a:blip r:embed="rId1"/>
          <a:stretch/>
        </p:blipFill>
        <p:spPr>
          <a:xfrm>
            <a:off x="457200" y="1981080"/>
            <a:ext cx="6324480" cy="46198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2" name="Title 1"/>
          <p:cNvSpPr/>
          <p:nvPr/>
        </p:nvSpPr>
        <p:spPr>
          <a:xfrm>
            <a:off x="6858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icipatory diagnosis of the main postharvest problems that should be addressed by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858000" y="1981080"/>
            <a:ext cx="2057400" cy="10069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collected from 255 farmers in 15 vill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60948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cent Loss at different postharvest handling s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40" y="1828800"/>
          <a:ext cx="6934320" cy="262908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533520"/>
                <a:gridCol w="685800"/>
                <a:gridCol w="609480"/>
                <a:gridCol w="685800"/>
                <a:gridCol w="654120"/>
                <a:gridCol w="588960"/>
                <a:gridCol w="738360"/>
              </a:tblGrid>
              <a:tr h="105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loss (insects, rodents &amp; fung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eon p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flo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-si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. nu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rgh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086600" y="1828800"/>
            <a:ext cx="1981080" cy="18442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9-20% loss of foo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loss prevention technologi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0:24:56Z</dcterms:created>
  <dc:creator>Kinyoro Ibrahim</dc:creator>
  <dc:description/>
  <dc:language>en-US</dc:language>
  <cp:lastModifiedBy>Odhong, Jonathan (IITA)</cp:lastModifiedBy>
  <dcterms:modified xsi:type="dcterms:W3CDTF">2015-07-10T14:54:12Z</dcterms:modified>
  <cp:revision>60</cp:revision>
  <dc:subject/>
  <dc:title>Slide 1</dc:title>
</cp:coreProperties>
</file>